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9C9-E9E2-4F29-87DA-7E6157B1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4EB-5219-4712-B72B-19EBDBAC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FE5-C10C-4DFA-9F01-8A8E5B98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BAF-82C0-4C3F-AC39-1EBE89FB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77E-8D75-41C9-B2AD-2141EE20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084-A0A3-44D6-B6A4-32061B91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8AA-A433-44BC-8EA4-E17768EB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DC8-C223-427A-A797-95012080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24B-BABF-41DB-B814-69E59D49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505-D1C3-45F3-BE4A-0A4282E5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6A9-3FF2-4897-9779-95813BAF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87C-D0C5-42D2-A5BC-05472E06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3BAA-8EA3-479D-B602-40E70469A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979560"/>
            <a:ext cx="8713800" cy="532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1628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6400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14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W, Mech,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580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-Co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WC, S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39974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3997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859200"/>
            <a:ext cx="3024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3997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908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6512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272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437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65120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46512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24019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2401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844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2844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2844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4920" y="28447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844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99280" y="28386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0720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5078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94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9440" y="5078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3860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3997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6000" y="449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4508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56720" y="4567320"/>
            <a:ext cx="7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tner, Lic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6000" y="4653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M, 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7280" y="5078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99280" y="5072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0036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1239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24200" y="1123920"/>
            <a:ext cx="31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eatu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800" y="345960"/>
            <a:ext cx="81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‘ Scenario for FY04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2.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4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2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63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8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1125360"/>
            <a:ext cx="1368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421000"/>
            <a:ext cx="1657080" cy="576360"/>
          </a:xfrm>
          <a:prstGeom prst="wedgeEllipseCallout">
            <a:avLst>
              <a:gd name="adj1" fmla="val 0"/>
              <a:gd name="adj2" fmla="val -11308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: 6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5734080"/>
            <a:ext cx="790560" cy="431640"/>
          </a:xfrm>
          <a:prstGeom prst="wedgeEllipseCallout">
            <a:avLst>
              <a:gd name="adj1" fmla="val -17870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8160" y="5734080"/>
            <a:ext cx="790560" cy="431640"/>
          </a:xfrm>
          <a:prstGeom prst="wedgeEllipseCallout">
            <a:avLst>
              <a:gd name="adj1" fmla="val -5421"/>
              <a:gd name="adj2" fmla="val -11360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734080"/>
            <a:ext cx="790560" cy="431640"/>
          </a:xfrm>
          <a:prstGeom prst="wedgeEllipseCallout">
            <a:avLst>
              <a:gd name="adj1" fmla="val 19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5734080"/>
            <a:ext cx="790560" cy="431640"/>
          </a:xfrm>
          <a:prstGeom prst="wedgeEllipseCallout">
            <a:avLst>
              <a:gd name="adj1" fmla="val -10240"/>
              <a:gd name="adj2" fmla="val -11470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5734080"/>
            <a:ext cx="790920" cy="431640"/>
          </a:xfrm>
          <a:prstGeom prst="wedgeEllipseCallout">
            <a:avLst>
              <a:gd name="adj1" fmla="val -22689"/>
              <a:gd name="adj2" fmla="val -11470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7800" y="5734080"/>
            <a:ext cx="790560" cy="431640"/>
          </a:xfrm>
          <a:prstGeom prst="wedgeEllipseCallout">
            <a:avLst>
              <a:gd name="adj1" fmla="val -31125"/>
              <a:gd name="adj2" fmla="val -11176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5734080"/>
            <a:ext cx="790560" cy="431640"/>
          </a:xfrm>
          <a:prstGeom prst="wedgeEllipseCallout">
            <a:avLst>
              <a:gd name="adj1" fmla="val 5824"/>
              <a:gd name="adj2" fmla="val -11948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734080"/>
            <a:ext cx="9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55920" y="573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v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3284640"/>
            <a:ext cx="934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4880" y="3284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5734080"/>
            <a:ext cx="790560" cy="431640"/>
          </a:xfrm>
          <a:prstGeom prst="wedgeEllipseCallout">
            <a:avLst>
              <a:gd name="adj1" fmla="val -77712"/>
              <a:gd name="adj2" fmla="val -47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28000" y="3573360"/>
            <a:ext cx="792000" cy="432000"/>
          </a:xfrm>
          <a:prstGeom prst="wedgeEllipseCallout">
            <a:avLst>
              <a:gd name="adj1" fmla="val -87074"/>
              <a:gd name="adj2" fmla="val -312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6520" y="3500280"/>
            <a:ext cx="790560" cy="432000"/>
          </a:xfrm>
          <a:prstGeom prst="wedgeEllipseCallout">
            <a:avLst>
              <a:gd name="adj1" fmla="val -6226"/>
              <a:gd name="adj2" fmla="val -12941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3500280"/>
            <a:ext cx="790560" cy="432000"/>
          </a:xfrm>
          <a:prstGeom prst="wedgeEllipseCallout">
            <a:avLst>
              <a:gd name="adj1" fmla="val 199"/>
              <a:gd name="adj2" fmla="val -1264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48000" y="551664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344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6144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59640" y="3357720"/>
            <a:ext cx="43200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3640" y="5516640"/>
            <a:ext cx="50328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9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51664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3284640"/>
            <a:ext cx="43200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324972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5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324972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’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9:00:27Z</dcterms:created>
  <dc:creator>Jürgen Schmitz</dc:creator>
  <dc:description/>
  <dc:language>en-US</dc:language>
  <cp:lastModifiedBy>Jürgen Schmitz</cp:lastModifiedBy>
  <dcterms:modified xsi:type="dcterms:W3CDTF">2004-12-08T17:59:43Z</dcterms:modified>
  <cp:revision>18</cp:revision>
  <dc:subject/>
  <dc:title>Folie 1</dc:title>
</cp:coreProperties>
</file>